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6AB3-B723-49F2-9DD5-D95D6ADDB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7FC6-0610-4551-BD73-65CB2EEF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2A4E-EDD3-4A7E-963E-5A3DDBFF4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7234-D502-4083-BAE4-367277309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27E8-97EA-4DC5-B35C-19B67F57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5B44-17C4-41B3-81A1-34EF40F2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F104-F5C0-4138-B6A6-2EEC9D2D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4C98-30AB-4A97-8F53-240E5B35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CA97-F23A-4245-99D3-5D8F4872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7EE7-61F4-463B-B211-E6C3A45C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B68B-F6B9-48C8-AB54-69DEE8C6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2537-7C73-4A1E-917F-BCA08B48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58F7-2646-4922-A20E-87E0E64BD3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upetta la bel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ndré Bourv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04 Houpetta la bella.m4a" descr=""/>
          <p:cNvPicPr/>
          <p:nvPr/>
        </p:nvPicPr>
        <p:blipFill>
          <a:blip r:embed="rId1"/>
          <a:stretch/>
        </p:blipFill>
        <p:spPr>
          <a:xfrm>
            <a:off x="4495680" y="5105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13:32:15Z</dcterms:created>
  <dc:creator>Angie</dc:creator>
  <dc:description/>
  <dc:language>en-US</dc:language>
  <cp:lastModifiedBy>Angie</cp:lastModifiedBy>
  <dcterms:modified xsi:type="dcterms:W3CDTF">2011-11-15T22:50:14Z</dcterms:modified>
  <cp:revision>7</cp:revision>
  <dc:subject/>
  <dc:title>Houpetta</dc:title>
</cp:coreProperties>
</file>